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png" ContentType="image/png"/>
  <Override PartName="/ppt/media/image3.png" ContentType="image/pn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2DCC-51D0-4F77-9A5B-7471C5406CC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5725-52FD-449F-AD69-AF3A6789AF4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B617-9975-4F6B-AB8B-3A3ED2E0E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55EE-5CB2-47F9-A04F-0601CB3C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4DB6-7FE9-43C5-8FCF-C9D9D638B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DCAB-BC8B-488D-9981-0EF929F2B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99E3-F969-45EE-A168-9585C5AC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7375-1C58-4841-8A5D-6033EAC9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18AD-AEA6-4309-ACBF-E448C418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D5F2-B1AA-4E98-AA24-09987F31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BD2F-648A-4CB9-A376-B4AE15F5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6FB3-DB8D-4B6E-9C19-BED09AC3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2484-7F85-4B66-BE5B-30980CED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DB39-2247-462E-BE32-548C0285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C451-892D-4B09-AC23-06E42FF2DD82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ottotitolo 2" descr=""/>
          <p:cNvPicPr/>
          <p:nvPr/>
        </p:nvPicPr>
        <p:blipFill>
          <a:blip r:embed="rId2"/>
          <a:stretch/>
        </p:blipFill>
        <p:spPr>
          <a:xfrm>
            <a:off x="-79200" y="4565520"/>
            <a:ext cx="9326520" cy="2159280"/>
          </a:xfrm>
          <a:prstGeom prst="rect">
            <a:avLst/>
          </a:prstGeom>
          <a:ln w="0">
            <a:noFill/>
          </a:ln>
        </p:spPr>
      </p:pic>
      <p:pic>
        <p:nvPicPr>
          <p:cNvPr id="49" name="Rettangolo 8" descr=""/>
          <p:cNvPicPr/>
          <p:nvPr/>
        </p:nvPicPr>
        <p:blipFill>
          <a:blip r:embed="rId3"/>
          <a:stretch/>
        </p:blipFill>
        <p:spPr>
          <a:xfrm>
            <a:off x="-2004840" y="1468440"/>
            <a:ext cx="12922200" cy="3384720"/>
          </a:xfrm>
          <a:prstGeom prst="rect">
            <a:avLst/>
          </a:prstGeom>
          <a:ln w="0">
            <a:noFill/>
          </a:ln>
        </p:spPr>
      </p:pic>
      <p:sp>
        <p:nvSpPr>
          <p:cNvPr id="50" name="Rettangolo 9"/>
          <p:cNvSpPr/>
          <p:nvPr/>
        </p:nvSpPr>
        <p:spPr>
          <a:xfrm>
            <a:off x="0" y="6751800"/>
            <a:ext cx="9144000" cy="212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0718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200" spc="-1" strike="noStrike">
                <a:solidFill>
                  <a:srgbClr val="ff9966"/>
                </a:solidFill>
                <a:latin typeface="Footlight MT Light"/>
              </a:rPr>
              <a:t>       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Travail accompli jusqu’à 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      maintena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43000"/>
            <a:ext cx="86868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fr-CH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Création de la fonction avec les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70c0"/>
                </a:solidFill>
                <a:latin typeface="Calibri"/>
              </a:rPr>
              <a:t>p&lt;-function(l,m,t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0" lang="de-DE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70c0"/>
                </a:solidFill>
                <a:latin typeface="Calibri"/>
              </a:rPr>
              <a:t>num&lt;-(l-m)^2*exp((l-m)*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70c0"/>
                </a:solidFill>
                <a:latin typeface="Calibri"/>
              </a:rPr>
              <a:t>den&lt;- (l*exp((l-m)*t)-m)^z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70c0"/>
                </a:solidFill>
                <a:latin typeface="Calibri"/>
              </a:rPr>
              <a:t>return(num/de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70c0"/>
                </a:solidFill>
                <a:latin typeface="Calibri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prob&lt;-function(l,m,t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if(m==l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like&lt;-log(1/((1+l*t)^2))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else{ like&lt;-log(p(l,m,t))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if(is.nan(like)| is.infinite(like)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return(-1000000000)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else  { return(like)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9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9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Segnaposto contenuto 3" descr=""/>
          <p:cNvPicPr/>
          <p:nvPr/>
        </p:nvPicPr>
        <p:blipFill>
          <a:blip r:embed="rId1"/>
          <a:stretch/>
        </p:blipFill>
        <p:spPr>
          <a:xfrm>
            <a:off x="1714680" y="2071800"/>
            <a:ext cx="3743280" cy="3951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0718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200" spc="-1" strike="noStrike">
                <a:solidFill>
                  <a:srgbClr val="ff9966"/>
                </a:solidFill>
                <a:latin typeface="Footlight MT Light"/>
              </a:rPr>
              <a:t>       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Travail accompli jusqu’à 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      maintena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9680" y="1534680"/>
            <a:ext cx="4429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300" spc="-1" strike="noStrike">
                <a:solidFill>
                  <a:srgbClr val="000000"/>
                </a:solidFill>
                <a:latin typeface="Calibri"/>
              </a:rPr>
              <a:t>l=1 , m=1, spp=20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57440" y="157140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l=20, m=0.1, spp=20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3"/>
          <a:stretch/>
        </p:blipFill>
        <p:spPr>
          <a:xfrm>
            <a:off x="5357880" y="2143080"/>
            <a:ext cx="378612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0718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200" spc="-1" strike="noStrike">
                <a:solidFill>
                  <a:srgbClr val="ff9966"/>
                </a:solidFill>
                <a:latin typeface="Footlight MT Light"/>
              </a:rPr>
              <a:t>       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Travail accompli jusqu’à 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      maintena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81154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Processus stochastique: l = 5, m =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2571840" y="2143080"/>
            <a:ext cx="2479680" cy="3951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3"/>
          <a:stretch/>
        </p:blipFill>
        <p:spPr>
          <a:xfrm>
            <a:off x="6072120" y="2143080"/>
            <a:ext cx="235260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0718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4000" spc="-1" strike="noStrike">
                <a:solidFill>
                  <a:srgbClr val="ff9966"/>
                </a:solidFill>
                <a:latin typeface="Footlight MT Light"/>
              </a:rPr>
              <a:t>      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Travail accompli jusqu’à     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      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       maintena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4. Vraisemblance:  L(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λ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, µ|t, T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vrais&lt;- function(l,m,t,T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a&lt;- prob(l,m,T) + sum(sapply(t, prob, l=l, m=m)) + 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      length(t)*log(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      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return(a)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1" descr=""/>
          <p:cNvPicPr/>
          <p:nvPr/>
        </p:nvPicPr>
        <p:blipFill>
          <a:blip r:embed="rId2"/>
          <a:stretch/>
        </p:blipFill>
        <p:spPr>
          <a:xfrm>
            <a:off x="2214720" y="2071800"/>
            <a:ext cx="6543360" cy="928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3"/>
          <a:stretch/>
        </p:blipFill>
        <p:spPr>
          <a:xfrm>
            <a:off x="2928960" y="4357800"/>
            <a:ext cx="501948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0718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200" spc="-1" strike="noStrike">
                <a:solidFill>
                  <a:srgbClr val="ff9966"/>
                </a:solidFill>
                <a:latin typeface="Footlight MT Light"/>
              </a:rPr>
              <a:t>       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Travail accompli jusqu’à   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      maintena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5.Matrice de stockag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-Définir des valeurs pour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λ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 et 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-appliquer vrais à la matr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Immagine 3" descr="Img matrice.jpg"/>
          <p:cNvPicPr/>
          <p:nvPr/>
        </p:nvPicPr>
        <p:blipFill>
          <a:blip r:embed="rId2"/>
          <a:stretch/>
        </p:blipFill>
        <p:spPr>
          <a:xfrm>
            <a:off x="3429000" y="3357720"/>
            <a:ext cx="37702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magine 4" descr=""/>
          <p:cNvPicPr/>
          <p:nvPr/>
        </p:nvPicPr>
        <p:blipFill>
          <a:blip r:embed="rId1"/>
          <a:stretch/>
        </p:blipFill>
        <p:spPr>
          <a:xfrm>
            <a:off x="1857240" y="2500200"/>
            <a:ext cx="7286760" cy="4357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0718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42848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6. Génération des graphiqu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      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Travail accompli jusqu’à 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      maintena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0718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      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Travail à accompli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Recherche de probabilité maximale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µ et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λ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les plus vraisemblabl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reccia a destra 3"/>
          <p:cNvSpPr/>
          <p:nvPr/>
        </p:nvSpPr>
        <p:spPr>
          <a:xfrm rot="5400000">
            <a:off x="5042160" y="2310480"/>
            <a:ext cx="604800" cy="393480"/>
          </a:xfrm>
          <a:prstGeom prst="rightArrow">
            <a:avLst>
              <a:gd name="adj1" fmla="val 50000"/>
              <a:gd name="adj2" fmla="val 40255"/>
            </a:avLst>
          </a:prstGeom>
          <a:solidFill>
            <a:srgbClr val="ed5f1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3132000" y="3448080"/>
            <a:ext cx="43578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0718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 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Travail restant à accompli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071440" y="1356840"/>
            <a:ext cx="70722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00"/>
                </a:solidFill>
                <a:latin typeface="Calibri"/>
              </a:rPr>
              <a:t>Méthod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1.Derivées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trop complexes dans notre 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2.Méthodes itérativ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alternative non-algébrique, approximation des résultats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méthode de Newton 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algorithme du simplex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ccia angolare in su 5"/>
          <p:cNvSpPr/>
          <p:nvPr/>
        </p:nvSpPr>
        <p:spPr>
          <a:xfrm rot="5400000">
            <a:off x="2428560" y="5286240"/>
            <a:ext cx="571320" cy="428760"/>
          </a:xfrm>
          <a:prstGeom prst="pie">
            <a:avLst/>
          </a:prstGeom>
          <a:solidFill>
            <a:srgbClr val="ed5f1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0718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       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Difficultés rencontré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050560" y="1628640"/>
            <a:ext cx="70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1.Utilisation du logiciel 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2.Première approche de la phylogéni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3.Méthodes itératives compliqué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700" spc="-1" strike="noStrike">
                <a:solidFill>
                  <a:srgbClr val="000000"/>
                </a:solidFill>
                <a:latin typeface="Calibri"/>
              </a:rPr>
              <a:t>Annalisa.Mascitti@unil.ch, Linda.Mueller@unil.ch,Vincent.Sonnay@unil.ch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en-GB" sz="3600" spc="-1" strike="noStrike">
                <a:solidFill>
                  <a:srgbClr val="ff9966"/>
                </a:solidFill>
                <a:latin typeface="Footlight MT Light"/>
              </a:rPr>
              <a:t>      </a:t>
            </a:r>
            <a:r>
              <a:rPr b="0" lang="en-GB" sz="3600" spc="-1" strike="noStrike">
                <a:solidFill>
                  <a:srgbClr val="ff9966"/>
                </a:solidFill>
                <a:latin typeface="Footlight MT Light"/>
              </a:rPr>
              <a:t>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0718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2071440" y="1785600"/>
            <a:ext cx="70722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Buts principau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Intérêt et pertinence du proj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Rappel concernant la phylogén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Travail accompli jusqu’à maintena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Travail restant à accompli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Difficultés rencontré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27000"/>
            <a:ext cx="20718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en-GB" sz="3600" spc="-1" strike="noStrike">
                <a:solidFill>
                  <a:srgbClr val="ff9966"/>
                </a:solidFill>
                <a:latin typeface="Footlight MT Light"/>
              </a:rPr>
              <a:t>      </a:t>
            </a:r>
            <a:r>
              <a:rPr b="0" lang="en-GB" sz="3600" spc="-1" strike="noStrike">
                <a:solidFill>
                  <a:srgbClr val="ff9966"/>
                </a:solidFill>
                <a:latin typeface="Footlight MT Light"/>
              </a:rPr>
              <a:t>Buts principau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071440" y="1142640"/>
            <a:ext cx="70722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1. Mécanismes d’évolu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Facteurs influençant les taux d’extin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et de spéci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Utilisation et interprétation de données phylogénétiqu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2. Estimer les taux d’extinction et 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spéciation à partir d’un arb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phylogénétiqu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0718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4400" spc="-1" strike="noStrike">
                <a:solidFill>
                  <a:srgbClr val="ff9966"/>
                </a:solidFill>
                <a:latin typeface="Footlight MT Light"/>
              </a:rPr>
              <a:t>     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Intérêts et pertinence du proj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071440" y="1571760"/>
            <a:ext cx="70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Interdisciplinarit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Méthodologie de recherch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Biologie évolutive + phylogénétiqu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Compréhension de la biodiversité et de sa conser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Freccia in giù 5"/>
          <p:cNvSpPr/>
          <p:nvPr/>
        </p:nvSpPr>
        <p:spPr>
          <a:xfrm>
            <a:off x="4786200" y="3786120"/>
            <a:ext cx="500040" cy="85716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ed5f1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0718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      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Rappel concernant la phylogén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14360" y="1628640"/>
            <a:ext cx="676908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Séquençag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Alignements</a:t>
            </a: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Taux de substitu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Postulat</a:t>
            </a: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Arbre phylogénétique</a:t>
            </a: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Freccia in giù 5"/>
          <p:cNvSpPr/>
          <p:nvPr/>
        </p:nvSpPr>
        <p:spPr>
          <a:xfrm>
            <a:off x="5357880" y="2214720"/>
            <a:ext cx="369720" cy="492120"/>
          </a:xfrm>
          <a:prstGeom prst="downArrow">
            <a:avLst>
              <a:gd name="adj1" fmla="val 50000"/>
              <a:gd name="adj2" fmla="val 50020"/>
            </a:avLst>
          </a:prstGeom>
          <a:solidFill>
            <a:srgbClr val="ed5f1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ccia in giù 9"/>
          <p:cNvSpPr/>
          <p:nvPr/>
        </p:nvSpPr>
        <p:spPr>
          <a:xfrm>
            <a:off x="5357880" y="3357720"/>
            <a:ext cx="369720" cy="492120"/>
          </a:xfrm>
          <a:prstGeom prst="downArrow">
            <a:avLst>
              <a:gd name="adj1" fmla="val 50000"/>
              <a:gd name="adj2" fmla="val 50020"/>
            </a:avLst>
          </a:prstGeom>
          <a:solidFill>
            <a:srgbClr val="ed5f1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ccia in giù 10"/>
          <p:cNvSpPr/>
          <p:nvPr/>
        </p:nvSpPr>
        <p:spPr>
          <a:xfrm>
            <a:off x="5357880" y="4429080"/>
            <a:ext cx="369720" cy="492120"/>
          </a:xfrm>
          <a:prstGeom prst="downArrow">
            <a:avLst>
              <a:gd name="adj1" fmla="val 50000"/>
              <a:gd name="adj2" fmla="val 50020"/>
            </a:avLst>
          </a:prstGeom>
          <a:solidFill>
            <a:srgbClr val="ed5f1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ccia in giù 11"/>
          <p:cNvSpPr/>
          <p:nvPr/>
        </p:nvSpPr>
        <p:spPr>
          <a:xfrm>
            <a:off x="5357880" y="5500800"/>
            <a:ext cx="369720" cy="492120"/>
          </a:xfrm>
          <a:prstGeom prst="downArrow">
            <a:avLst>
              <a:gd name="adj1" fmla="val 50000"/>
              <a:gd name="adj2" fmla="val 50020"/>
            </a:avLst>
          </a:prstGeom>
          <a:solidFill>
            <a:srgbClr val="ed5f1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0718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      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Rappel concernant la phylogén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141280" y="1546200"/>
            <a:ext cx="676908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Les arbres phylogénétiques sont des </a:t>
            </a:r>
            <a:r>
              <a:rPr b="1" lang="fr-CH" sz="3000" spc="-1" strike="noStrike">
                <a:solidFill>
                  <a:srgbClr val="000000"/>
                </a:solidFill>
                <a:latin typeface="Calibri"/>
              </a:rPr>
              <a:t>modè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Les méthodes de calculs utilisées sont des </a:t>
            </a:r>
            <a:r>
              <a:rPr b="1" lang="fr-CH" sz="3000" spc="-1" strike="noStrike">
                <a:solidFill>
                  <a:srgbClr val="000000"/>
                </a:solidFill>
                <a:latin typeface="Calibri"/>
              </a:rPr>
              <a:t>approxim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Freccia in giù 5"/>
          <p:cNvSpPr/>
          <p:nvPr/>
        </p:nvSpPr>
        <p:spPr>
          <a:xfrm rot="16200000">
            <a:off x="2357280" y="4500720"/>
            <a:ext cx="789120" cy="1217520"/>
          </a:xfrm>
          <a:prstGeom prst="downArrow">
            <a:avLst>
              <a:gd name="adj1" fmla="val 50000"/>
              <a:gd name="adj2" fmla="val 45001"/>
            </a:avLst>
          </a:prstGeom>
          <a:solidFill>
            <a:srgbClr val="ed5f1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asellaDiTesto 7"/>
          <p:cNvSpPr/>
          <p:nvPr/>
        </p:nvSpPr>
        <p:spPr>
          <a:xfrm>
            <a:off x="2500200" y="4357800"/>
            <a:ext cx="69296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Les résultats obtenus sont des </a:t>
            </a: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CH" sz="3000" spc="-1" strike="noStrike">
                <a:solidFill>
                  <a:srgbClr val="000000"/>
                </a:solidFill>
                <a:latin typeface="Calibri"/>
              </a:rPr>
              <a:t>estimations</a:t>
            </a: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 et comprennent donc </a:t>
            </a: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une certaine marge d’erre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0718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Immagine 5" descr="Img arbre"/>
          <p:cNvPicPr/>
          <p:nvPr/>
        </p:nvPicPr>
        <p:blipFill>
          <a:blip r:embed="rId2"/>
          <a:stretch/>
        </p:blipFill>
        <p:spPr>
          <a:xfrm>
            <a:off x="2428920" y="1428840"/>
            <a:ext cx="5429160" cy="36432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      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Travail accompli jusqu’à 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      maintena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1600200"/>
            <a:ext cx="790092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reccia a destra 3"/>
          <p:cNvSpPr/>
          <p:nvPr/>
        </p:nvSpPr>
        <p:spPr>
          <a:xfrm>
            <a:off x="2714760" y="5357880"/>
            <a:ext cx="928440" cy="4284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ed5f1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ccia a destra 4"/>
          <p:cNvSpPr/>
          <p:nvPr/>
        </p:nvSpPr>
        <p:spPr>
          <a:xfrm>
            <a:off x="2714760" y="5857920"/>
            <a:ext cx="928440" cy="42876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ed5f1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ttangolo 7"/>
          <p:cNvSpPr/>
          <p:nvPr/>
        </p:nvSpPr>
        <p:spPr>
          <a:xfrm>
            <a:off x="2071800" y="5288040"/>
            <a:ext cx="707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t &lt;-branching.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T &lt;-temps écoulé depuis le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       nœud racinaire ancest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0718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      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Travail accompli jusqu’à     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      maintena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071800" y="1714320"/>
            <a:ext cx="68292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Utilisation du logiciel 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1.Télécharger le package Ap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800" spc="-1" strike="noStrike">
                <a:solidFill>
                  <a:srgbClr val="0070c0"/>
                </a:solidFill>
                <a:latin typeface="Calibri"/>
              </a:rPr>
              <a:t>library(ap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2.Charger le fichier arb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800" spc="-1" strike="noStrike">
                <a:solidFill>
                  <a:srgbClr val="0070c0"/>
                </a:solidFill>
                <a:latin typeface="Calibri"/>
              </a:rPr>
              <a:t>arbre&lt;-read.tree("treefile"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0" y="108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0718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200" spc="-1" strike="noStrike">
                <a:solidFill>
                  <a:srgbClr val="ff9966"/>
                </a:solidFill>
                <a:latin typeface="Footlight MT Light"/>
              </a:rPr>
              <a:t>       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Travail accompli jusqu’à 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   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      maintena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71680" y="157176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181800" indent="-181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3.Birth and death: modèle stochast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1800" indent="-181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1800" indent="-181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1800" indent="-181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1800" indent="-181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1800" indent="-181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1800" indent="-181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1800" indent="-181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1800" indent="-181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1800" indent="-181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1800" indent="-181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1800" indent="-181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fr-CH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2200" spc="-1" strike="noStrike">
                <a:solidFill>
                  <a:srgbClr val="000000"/>
                </a:solidFill>
                <a:latin typeface="Calibri"/>
              </a:rPr>
              <a:t>avec </a:t>
            </a:r>
            <a:r>
              <a:rPr b="0" lang="el-GR" sz="2200" spc="-1" strike="noStrike">
                <a:solidFill>
                  <a:srgbClr val="000000"/>
                </a:solidFill>
                <a:latin typeface="Calibri"/>
              </a:rPr>
              <a:t>λ </a:t>
            </a:r>
            <a:r>
              <a:rPr b="0" lang="fr-CH" sz="2200" spc="-1" strike="noStrike">
                <a:solidFill>
                  <a:srgbClr val="000000"/>
                </a:solidFill>
                <a:latin typeface="Calibri"/>
              </a:rPr>
              <a:t>= taux de spéciation , µ= taux d’extin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1800" indent="-181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1800" indent="-181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1800" indent="-181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1800" indent="-181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1800" indent="-181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1800" indent="-181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1800" indent="-181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2143080" y="2214720"/>
            <a:ext cx="6000840" cy="30906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" descr=""/>
          <p:cNvPicPr/>
          <p:nvPr/>
        </p:nvPicPr>
        <p:blipFill>
          <a:blip r:embed="rId3"/>
          <a:stretch/>
        </p:blipFill>
        <p:spPr>
          <a:xfrm>
            <a:off x="2571840" y="5214960"/>
            <a:ext cx="3100320" cy="9288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107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7:11:30Z</dcterms:created>
  <dc:creator>Mueller Linda</dc:creator>
  <dc:description/>
  <dc:language>en-US</dc:language>
  <cp:lastModifiedBy>Mueller Linda</cp:lastModifiedBy>
  <dcterms:modified xsi:type="dcterms:W3CDTF">2009-04-02T13:19:14Z</dcterms:modified>
  <cp:revision>76</cp:revision>
  <dc:subject/>
  <dc:title>Estimating rate of speciation and extinction in a tropical plant </dc:title>
</cp:coreProperties>
</file>